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C63-D580-4E33-9823-8764C388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9D4-EBD4-4419-9FE1-8BC790745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2370-C82E-4DAB-81DE-C01C81174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3784-00D6-48A8-BCF4-87914A751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51BB-1F57-48E6-A985-608D7204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2B6D-1856-47CA-BC07-07C23B7F7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D51F-3176-4788-AB82-6B35E2F0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B07-A29D-4517-B6A1-6718C8EF7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20B7-9A9A-44A5-BC16-CD91DFC7A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0C3-1D02-4D47-92FD-4ADB8B9E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FA1B-C864-4C81-9439-87CE0804D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21D6-7DD0-46A8-BC0C-E4A89621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D64-DE67-4607-AD2A-C0BA4DAE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CC3-FFD2-4501-85A9-427C1B33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F33-28DA-43C7-BA1C-107AF1C7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6C4-FAE0-4B0D-871D-3A8E7432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3543-1573-4AB9-8E64-7CF711BE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E5A-4395-4B57-9D43-6A58C7F8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E20F-CCD6-4AE3-A380-31F969A1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267A-E8A6-40CC-BF7C-AD7D3C09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7E78-7926-426E-BE33-AB1AB7C8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6957-D1A9-411B-8E82-5DA7E780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ABD2-799F-44BC-B660-C8E213C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06B-5521-4B7E-98A9-61395D1B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77A1-BBEF-461C-8625-CCBB47D2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1DD-C280-4E8E-822E-E3CD0EE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343A-4F6F-4DB5-8ABD-2CBAC9CF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2283-9FD2-47EC-BCC6-C7B34364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BFF1-473F-414F-A6D9-1F3B82A6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7F9-9EE6-45F5-AA96-0291E396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9D6-60C4-4A97-B02E-85E59012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B38-7D07-4921-AF96-CB027498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48C-23D3-4CB2-BBEE-CCE6F9DD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440-618F-46C0-8B7A-6469CABC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6E4-2E6E-4EDB-A8E6-8A27198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9AA-C253-4969-899D-72EAB70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37A1-E5D3-4F15-A74E-BA88B64221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7B28-6234-47C4-BA76-B3C00C79CD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you determine which reactant is limit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200g of sulfur reacts with 100g of chlorine, what mass of disulfur dichloride is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oles of the reactants based on their m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the two reactants are in the correct mole ratio as given by the balanced chemical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number of moles of the limiting reaction as your given value to calculate the mass of the product that could be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2590920" y="1143000"/>
                <a:ext cx="36702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else can you do 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how much reactant is in excess once the reaction is carr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Calculate the actual amount of the excess reactant that is required by using the given quantity of the limiting reac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Calculate the difference between the amount of the excess reactant required and the amount that is giv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0" y="762120"/>
            <a:ext cx="9144000" cy="65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lorine is used by textile manufacturers to bleach cloth.  Excess chlorine is destroyed by its reaction with sodium thiosulfate,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__NaHS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__H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is the mole ratio 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the balanced chemical equ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many grams sodium thiosulfate is needed to completely destroy 103g of chlorin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75g of N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dequate quantity to destroy 35g of C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ich reactant is in excess?  And how much is left over after the reaction occur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ic calculations provide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tic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maximum amount of product that can be produced from a given amount of reacta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u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that is actually produced when a reaction is carried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cent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s the ratio of the theoretical and actual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838080" y="5715000"/>
                <a:ext cx="74678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cent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Yiel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perimen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heoreticalYiel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oichiometr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 Yield Probl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ol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) is produced from the fermentation of sucr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theoretical and percent yields of ethanol if 684g sucrose undergoes fermentation and 349g of ethanol are ob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609480" y="2743200"/>
                <a:ext cx="6140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Top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of mass and the balanced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 ratios in a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ic calculations involving reactants an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Stoichiomet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 is the study of quantitative relationships between amounts of reactants used and products formed by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_product_image"/>
          <p:cNvPicPr/>
          <p:nvPr/>
        </p:nvPicPr>
        <p:blipFill>
          <a:blip r:embed="rId1"/>
          <a:stretch/>
        </p:blipFill>
        <p:spPr>
          <a:xfrm>
            <a:off x="2666880" y="3556080"/>
            <a:ext cx="3429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ctical Applications of Stoichiome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acecraft, the carbon dioxide exhaled by astronauts can be removed by its reaction with lithium hydroxide, LiOH, according to the following chemical equ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LiOH(s)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lithium hydroxide are required to react with 20 mol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average amount exhaled by a person each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ategy – Relate everything to the m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mole01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2048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533520" y="19051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e is the common thread that links reactants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838080" y="365760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H(s)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1148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96252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457200" y="5181480"/>
                <a:ext cx="152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2057400" y="5181480"/>
                <a:ext cx="1601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3849840" y="5143680"/>
                <a:ext cx="12920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5"/>
              <p:cNvSpPr txBox="1"/>
              <p:nvPr/>
            </p:nvSpPr>
            <p:spPr>
              <a:xfrm>
                <a:off x="5219640" y="5143680"/>
                <a:ext cx="1602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6"/>
              <p:cNvSpPr txBox="1"/>
              <p:nvPr/>
            </p:nvSpPr>
            <p:spPr>
              <a:xfrm>
                <a:off x="7012080" y="5105520"/>
                <a:ext cx="15224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ole Super Highw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649600" y="3886200"/>
            <a:ext cx="78084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144440" y="5394240"/>
            <a:ext cx="81288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857160" y="198108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1471680" y="4219560"/>
            <a:ext cx="1350720" cy="11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1673280" y="4289400"/>
            <a:ext cx="125712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959120" y="2322360"/>
            <a:ext cx="1047600" cy="16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2025720" y="2206800"/>
            <a:ext cx="1038240" cy="164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957320" y="5462640"/>
            <a:ext cx="16369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molar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214720" y="2128680"/>
            <a:ext cx="20192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6.02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468760" y="3809880"/>
            <a:ext cx="86688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504200" y="5460840"/>
            <a:ext cx="78408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015320" y="2038320"/>
            <a:ext cx="11966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5908680" y="4238640"/>
            <a:ext cx="1581120" cy="11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 flipV="1">
            <a:off x="5968800" y="4146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5826240" y="2370240"/>
            <a:ext cx="120960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5911920" y="2396880"/>
            <a:ext cx="122868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867280" y="5500800"/>
            <a:ext cx="16002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molar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4995720" y="2128680"/>
            <a:ext cx="20196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6.02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3943440" y="4289400"/>
            <a:ext cx="12286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3335400" y="40384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H="1">
            <a:off x="3335040" y="4191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18440" y="4038120"/>
            <a:ext cx="1662120" cy="108360"/>
            <a:chOff x="1018440" y="4038120"/>
            <a:chExt cx="1662120" cy="108360"/>
          </a:xfrm>
        </p:grpSpPr>
        <p:cxnSp>
          <p:nvCxnSpPr>
            <p:cNvPr id="146" name="Straight Arrow Connector 2"/>
            <p:cNvCxnSpPr/>
            <p:nvPr/>
          </p:nvCxnSpPr>
          <p:spPr>
            <a:xfrm flipH="1">
              <a:off x="1018440" y="4038120"/>
              <a:ext cx="1631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7" name="Straight Arrow Connector 26"/>
            <p:cNvCxnSpPr/>
            <p:nvPr/>
          </p:nvCxnSpPr>
          <p:spPr>
            <a:xfrm flipV="1">
              <a:off x="1049760" y="4145760"/>
              <a:ext cx="1631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48" name="Group 28"/>
          <p:cNvGrpSpPr/>
          <p:nvPr/>
        </p:nvGrpSpPr>
        <p:grpSpPr>
          <a:xfrm>
            <a:off x="6182640" y="3984120"/>
            <a:ext cx="1663560" cy="108360"/>
            <a:chOff x="6182640" y="3984120"/>
            <a:chExt cx="1663560" cy="108360"/>
          </a:xfrm>
        </p:grpSpPr>
        <p:cxnSp>
          <p:nvCxnSpPr>
            <p:cNvPr id="149" name="Straight Arrow Connector 29"/>
            <p:cNvCxnSpPr/>
            <p:nvPr/>
          </p:nvCxnSpPr>
          <p:spPr>
            <a:xfrm flipH="1">
              <a:off x="6182640" y="3984120"/>
              <a:ext cx="163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0" name="Straight Arrow Connector 30"/>
            <p:cNvCxnSpPr/>
            <p:nvPr/>
          </p:nvCxnSpPr>
          <p:spPr>
            <a:xfrm flipV="1">
              <a:off x="6213960" y="4091760"/>
              <a:ext cx="163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51" name="Rectangle 25"/>
          <p:cNvSpPr/>
          <p:nvPr/>
        </p:nvSpPr>
        <p:spPr>
          <a:xfrm>
            <a:off x="119160" y="4238640"/>
            <a:ext cx="186192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22.4L at (S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7140600" y="4219560"/>
            <a:ext cx="186228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e = 22.4L at (S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7846920" y="3827520"/>
            <a:ext cx="11145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14480" y="3822840"/>
            <a:ext cx="10299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369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ss of oxygen is needed to fully combust 12.5g etha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1828800" y="4078440"/>
                <a:ext cx="497844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609480" y="13716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moles of water are formed when 3.8 moles of Hydrogen react with an excess of Oxy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Problem Involving Volu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ot at S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olume of nitrogen gas that would be produced from 12.6g of ammonia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nsity of nitrogen is 0.808g/ml under the temperature conditions for this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miting Reac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reactions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2057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 all of the reactants get used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33520" y="266688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miting Reac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mit the extent of the reaction and thereby determines the amount of th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over reactant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cess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07-Tam-line-out-boys"/>
          <p:cNvPicPr/>
          <p:nvPr/>
        </p:nvPicPr>
        <p:blipFill>
          <a:blip r:embed="rId1"/>
          <a:stretch/>
        </p:blipFill>
        <p:spPr>
          <a:xfrm>
            <a:off x="1143000" y="43434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News1_4"/>
          <p:cNvPicPr/>
          <p:nvPr/>
        </p:nvPicPr>
        <p:blipFill>
          <a:blip r:embed="rId2"/>
          <a:stretch/>
        </p:blipFill>
        <p:spPr>
          <a:xfrm>
            <a:off x="4800600" y="4357800"/>
            <a:ext cx="243828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1:59:06Z</dcterms:created>
  <dc:creator>Dawn Pav</dc:creator>
  <dc:description/>
  <dc:language>en-US</dc:language>
  <cp:lastModifiedBy>Dawn</cp:lastModifiedBy>
  <dcterms:modified xsi:type="dcterms:W3CDTF">2013-03-29T16:10:22Z</dcterms:modified>
  <cp:revision>11</cp:revision>
  <dc:subject/>
  <dc:title>Chapter 12</dc:title>
</cp:coreProperties>
</file>